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3.png" ContentType="image/png"/>
  <Override PartName="/ppt/media/image4.jpeg" ContentType="image/jpe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B529-4464-4672-B5D3-616D9E6FA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EC6A-7ED3-49BE-BE1D-06F89CD4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3828-9B03-4733-B391-7BED46EA3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2204-9DD3-4FA6-8E85-95B73338C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7EBF-B22F-46C3-922C-BB2A91F4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8E65-F527-4EDA-B951-EF1209A5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BA60-9164-4C54-8FBF-BEFB5C18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5298-FFFD-4E32-A232-C156B450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7D51-26CE-4306-8DB3-B89B156D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D29C-CE65-436D-8B78-2C26F20B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33AB-D363-4D54-8F38-F94C5EB8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1AD7-5273-47AB-B4EC-3184874E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6824-12A5-45AD-B01E-C93DDEA70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7.png"/><Relationship Id="rId5" Type="http://schemas.openxmlformats.org/officeDocument/2006/relationships/image" Target="../media/image17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19920" y="4152960"/>
            <a:ext cx="1485720" cy="1485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666880" y="411480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80880" y="4076640"/>
            <a:ext cx="1486080" cy="1486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26560" y="5199120"/>
            <a:ext cx="796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I     like   movies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11275854p1" descr=""/>
          <p:cNvPicPr/>
          <p:nvPr/>
        </p:nvPicPr>
        <p:blipFill>
          <a:blip r:embed="rId4"/>
          <a:stretch/>
        </p:blipFill>
        <p:spPr>
          <a:xfrm>
            <a:off x="2133720" y="228600"/>
            <a:ext cx="480060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humbsup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2833560" cy="3504960"/>
          </a:xfrm>
          <a:prstGeom prst="rect">
            <a:avLst/>
          </a:prstGeom>
          <a:ln w="0">
            <a:noFill/>
          </a:ln>
        </p:spPr>
      </p:pic>
      <p:pic>
        <p:nvPicPr>
          <p:cNvPr id="90" name="thumbsdown" descr=""/>
          <p:cNvPicPr/>
          <p:nvPr/>
        </p:nvPicPr>
        <p:blipFill>
          <a:blip r:embed="rId2"/>
          <a:stretch/>
        </p:blipFill>
        <p:spPr>
          <a:xfrm>
            <a:off x="5562720" y="1752480"/>
            <a:ext cx="2835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oxoffice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4038480" cy="4038480"/>
          </a:xfrm>
          <a:prstGeom prst="rect">
            <a:avLst/>
          </a:prstGeom>
          <a:ln w="0">
            <a:noFill/>
          </a:ln>
        </p:spPr>
      </p:pic>
      <p:pic>
        <p:nvPicPr>
          <p:cNvPr id="47" name="ticket" descr=""/>
          <p:cNvPicPr/>
          <p:nvPr/>
        </p:nvPicPr>
        <p:blipFill>
          <a:blip r:embed="rId2"/>
          <a:stretch/>
        </p:blipFill>
        <p:spPr>
          <a:xfrm>
            <a:off x="5486400" y="838080"/>
            <a:ext cx="3314880" cy="2378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62120" y="4419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943600" y="4038480"/>
            <a:ext cx="1486080" cy="1486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5560" y="5257800"/>
            <a:ext cx="793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Get    my   ticket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3200400" y="43434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9200" y="5181480"/>
            <a:ext cx="911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Get    my   popcorn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43434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popcornbox" descr=""/>
          <p:cNvPicPr/>
          <p:nvPr/>
        </p:nvPicPr>
        <p:blipFill>
          <a:blip r:embed="rId2"/>
          <a:stretch/>
        </p:blipFill>
        <p:spPr>
          <a:xfrm>
            <a:off x="3048120" y="228600"/>
            <a:ext cx="2725560" cy="3657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172200" y="3962520"/>
            <a:ext cx="1486080" cy="1485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2971800" y="43434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ensations-cup-coke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2054160" cy="3352680"/>
          </a:xfrm>
          <a:prstGeom prst="rect">
            <a:avLst/>
          </a:prstGeom>
          <a:ln w="0">
            <a:noFill/>
          </a:ln>
        </p:spPr>
      </p:pic>
      <p:pic>
        <p:nvPicPr>
          <p:cNvPr id="58" name="sprite" descr=""/>
          <p:cNvPicPr/>
          <p:nvPr/>
        </p:nvPicPr>
        <p:blipFill>
          <a:blip r:embed="rId2"/>
          <a:stretch/>
        </p:blipFill>
        <p:spPr>
          <a:xfrm>
            <a:off x="4876920" y="68580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12720" y="5181480"/>
            <a:ext cx="753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Get   my   drink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143000" y="43434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00400" y="43434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244925-AA_prod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63" name="244477-AA_prod" descr=""/>
          <p:cNvPicPr/>
          <p:nvPr/>
        </p:nvPicPr>
        <p:blipFill>
          <a:blip r:embed="rId2"/>
          <a:stretch/>
        </p:blipFill>
        <p:spPr>
          <a:xfrm>
            <a:off x="2590920" y="685800"/>
            <a:ext cx="3635280" cy="2732040"/>
          </a:xfrm>
          <a:prstGeom prst="rect">
            <a:avLst/>
          </a:prstGeom>
          <a:ln w="0">
            <a:noFill/>
          </a:ln>
        </p:spPr>
      </p:pic>
      <p:pic>
        <p:nvPicPr>
          <p:cNvPr id="64" name="butterfinger-bbs" descr=""/>
          <p:cNvPicPr/>
          <p:nvPr/>
        </p:nvPicPr>
        <p:blipFill>
          <a:blip r:embed="rId3"/>
          <a:stretch/>
        </p:blipFill>
        <p:spPr>
          <a:xfrm>
            <a:off x="6019920" y="990720"/>
            <a:ext cx="2743200" cy="1466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12720" y="5181480"/>
            <a:ext cx="784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Get    my  candy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143000" y="43434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6095880" y="403848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3200400" y="43434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HotDog" descr=""/>
          <p:cNvPicPr/>
          <p:nvPr/>
        </p:nvPicPr>
        <p:blipFill>
          <a:blip r:embed="rId1"/>
          <a:stretch/>
        </p:blipFill>
        <p:spPr>
          <a:xfrm>
            <a:off x="2819520" y="609480"/>
            <a:ext cx="3504960" cy="3465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60080" y="5181480"/>
            <a:ext cx="82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Get    my  hotdog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14400" y="40384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200400" y="43434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324480" y="3962520"/>
            <a:ext cx="1486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nachos" descr=""/>
          <p:cNvPicPr/>
          <p:nvPr/>
        </p:nvPicPr>
        <p:blipFill>
          <a:blip r:embed="rId1"/>
          <a:stretch/>
        </p:blipFill>
        <p:spPr>
          <a:xfrm>
            <a:off x="2895480" y="685800"/>
            <a:ext cx="3353040" cy="2717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13080" y="5181480"/>
            <a:ext cx="8276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Get    my  nachos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143000" y="43434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3429000" y="43434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6324480" y="388620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Bruin1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105520" cy="4083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14160" y="5181480"/>
            <a:ext cx="718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Get    my   seat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143000" y="43434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505320" y="44197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214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kangaroojack_10" descr=""/>
          <p:cNvPicPr/>
          <p:nvPr/>
        </p:nvPicPr>
        <p:blipFill>
          <a:blip r:embed="rId1"/>
          <a:stretch/>
        </p:blipFill>
        <p:spPr>
          <a:xfrm>
            <a:off x="1600200" y="228600"/>
            <a:ext cx="5943600" cy="47545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019920" y="4152960"/>
            <a:ext cx="1485720" cy="1485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80880" y="4076640"/>
            <a:ext cx="1486080" cy="1486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26560" y="5199120"/>
            <a:ext cx="796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I     like   movies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4T16:31:08Z</dcterms:created>
  <dc:creator>Carol Shockley</dc:creator>
  <dc:description/>
  <dc:language>en-US</dc:language>
  <cp:lastModifiedBy>Carol Shockley</cp:lastModifiedBy>
  <dcterms:modified xsi:type="dcterms:W3CDTF">2003-02-04T20:07:21Z</dcterms:modified>
  <cp:revision>3</cp:revision>
  <dc:subject/>
  <dc:title>PowerPoint Presentation</dc:title>
</cp:coreProperties>
</file>